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F97CC-E03E-473F-AEA9-9131210D4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1756B-1997-48DB-A08F-5F7DE51AC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2BCAC-BD29-4B19-877D-55D130998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EA195-D159-4580-A0F1-C2186B848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6F369-0C4D-43EC-965C-D0463D5CE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40F6A-25CF-4A6C-8718-364C0FDEC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AF9F1-ED1A-41E5-971D-07249CBDA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48444-7644-4FCD-A11F-817EAF07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33C60-954D-41EF-97D0-B88C21E8D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7EF77-9E33-4C87-A398-9B35DC08B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E6261-E254-4178-81BC-AB09E8C6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7172A-10B3-4E81-89F7-1410D72A5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66991-408D-4EA9-8946-EBE0FECC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9AA2E-5F03-4202-A682-D859B3A1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C9BEF-831E-4680-A343-B886B2E17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7D8FF-05BA-4B09-8E58-3C7E1CCA5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5A359-0DE6-4935-AE3C-2068FC67B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31FF1-9D84-4061-819D-42B4C2180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D0595-8600-4292-9824-CA7ADB0F4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67697-BB68-4DB9-99D3-1450E4F4F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14EFB-C829-4FA3-A500-DBC69DAE7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AF6AB-FA84-4C45-8299-9F6C138F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BCAA4-54E8-405E-B4B0-59AD8A0C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C98E7-05AF-4120-9161-C6620DAD6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B4FA2-B0DB-4286-832B-9E9ACA4F1860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CC87B-5A8B-4A1F-8569-C94AFA01650C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CGAL/doc_html/cgal_manual/HalfedgeDS/fig/halfedge.gif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Geometric Modeling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Welcome to the dirty work!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jonash@cmlab.csie.ntu.edu.t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us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//////////////////////////////////////////////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9900"/>
                </a:solidFill>
                <a:latin typeface="Arial"/>
              </a:rPr>
              <a:t>//calculate the mesh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Vector v = Vector(0,0,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for(VCI vci = P.vertices_begin(); vci != P.vertices_end(); vci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v = v + (vci-&gt;point() - CGAL::ORIGI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v = v/P.size_of_vertices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Vector and Point are different type! Use ORI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Example code: SQRT3.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Chapter 10&amp;11 in CGAL man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Especially 10.3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out subsequent H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W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familiar with CGAL vertex/edge/facet operator in advanc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W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will work mostly on TAU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will modify the UI yoursel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you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L, Inheritance,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S .Net 2003/2005 (7.1/8.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GAL3.2.1 (requires BOOST), FLTK1.1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D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 format without texture and n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Incl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"C:\Program Files\fltk-1.1.7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"C:\Program Files\boost\boost_1_33_1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"C:\Program Files\CGAL-3.2.1\include\CGAL\config\msvc7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"C:\Program Files\CGAL-3.2.1\include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Linking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"C:\Program Files\fltk-1.1.7\lib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"C:\Program Files\CGAL-3.2.1\lib\msvc7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Linking Li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CGAL.lib FLTK.lib FLTKGL.lib </a:t>
            </a:r>
            <a:r>
              <a:rPr b="0" lang="zh-TW" sz="2000" spc="-1" strike="noStrike">
                <a:solidFill>
                  <a:srgbClr val="ff0000"/>
                </a:solidFill>
                <a:latin typeface="Arial"/>
              </a:rPr>
              <a:t>wsock32.lib comctl32.lib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 opengl32.lib glu32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Runtime 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Multithread DLL (/M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User Interface (FLTK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268360" y="1197000"/>
            <a:ext cx="4615200" cy="5573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877080" y="1306440"/>
            <a:ext cx="226692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Fl_Double_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659640" y="1052640"/>
            <a:ext cx="1441440" cy="468360"/>
          </a:xfrm>
          <a:custGeom>
            <a:avLst/>
            <a:gdLst/>
            <a:ahLst/>
            <a:rect l="l" t="t" r="r" b="b"/>
            <a:pathLst>
              <a:path w="908" h="295">
                <a:moveTo>
                  <a:pt x="908" y="295"/>
                </a:moveTo>
                <a:cubicBezTo>
                  <a:pt x="892" y="170"/>
                  <a:pt x="877" y="46"/>
                  <a:pt x="726" y="23"/>
                </a:cubicBezTo>
                <a:cubicBezTo>
                  <a:pt x="575" y="0"/>
                  <a:pt x="287" y="79"/>
                  <a:pt x="0" y="15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5940360" y="4052880"/>
            <a:ext cx="3203640" cy="1247760"/>
            <a:chOff x="5940360" y="4052880"/>
            <a:chExt cx="3203640" cy="1247760"/>
          </a:xfrm>
        </p:grpSpPr>
        <p:sp>
          <p:nvSpPr>
            <p:cNvPr id="117" name=""/>
            <p:cNvSpPr/>
            <p:nvPr/>
          </p:nvSpPr>
          <p:spPr>
            <a:xfrm>
              <a:off x="6877080" y="4510080"/>
              <a:ext cx="226692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Arial"/>
                </a:rPr>
                <a:t>MyGlWindo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Arial"/>
                </a:rPr>
                <a:t>(Fl_Gl_Window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940360" y="4052880"/>
              <a:ext cx="2087640" cy="528480"/>
            </a:xfrm>
            <a:custGeom>
              <a:avLst/>
              <a:gdLst/>
              <a:ahLst/>
              <a:rect l="l" t="t" r="r" b="b"/>
              <a:pathLst>
                <a:path w="1315" h="333">
                  <a:moveTo>
                    <a:pt x="1315" y="333"/>
                  </a:moveTo>
                  <a:cubicBezTo>
                    <a:pt x="1288" y="181"/>
                    <a:pt x="1262" y="30"/>
                    <a:pt x="1043" y="15"/>
                  </a:cubicBezTo>
                  <a:cubicBezTo>
                    <a:pt x="824" y="0"/>
                    <a:pt x="412" y="121"/>
                    <a:pt x="0" y="24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-36360" y="2349360"/>
            <a:ext cx="3240000" cy="3167280"/>
            <a:chOff x="-36360" y="2349360"/>
            <a:chExt cx="3240000" cy="3167280"/>
          </a:xfrm>
        </p:grpSpPr>
        <p:sp>
          <p:nvSpPr>
            <p:cNvPr id="120" name=""/>
            <p:cNvSpPr/>
            <p:nvPr/>
          </p:nvSpPr>
          <p:spPr>
            <a:xfrm>
              <a:off x="-36360" y="4726080"/>
              <a:ext cx="226692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Arial"/>
                </a:rPr>
                <a:t>Fl_Round_Butt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050920" y="2349360"/>
              <a:ext cx="1152720" cy="2892600"/>
            </a:xfrm>
            <a:custGeom>
              <a:avLst/>
              <a:gdLst/>
              <a:ahLst/>
              <a:rect l="l" t="t" r="r" b="b"/>
              <a:pathLst>
                <a:path w="726" h="1822">
                  <a:moveTo>
                    <a:pt x="45" y="1724"/>
                  </a:moveTo>
                  <a:cubicBezTo>
                    <a:pt x="22" y="1773"/>
                    <a:pt x="0" y="1822"/>
                    <a:pt x="91" y="1678"/>
                  </a:cubicBezTo>
                  <a:cubicBezTo>
                    <a:pt x="182" y="1534"/>
                    <a:pt x="484" y="1142"/>
                    <a:pt x="590" y="862"/>
                  </a:cubicBezTo>
                  <a:cubicBezTo>
                    <a:pt x="696" y="582"/>
                    <a:pt x="711" y="291"/>
                    <a:pt x="726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-108000" y="1844640"/>
            <a:ext cx="5184720" cy="2232000"/>
            <a:chOff x="-108000" y="1844640"/>
            <a:chExt cx="5184720" cy="2232000"/>
          </a:xfrm>
        </p:grpSpPr>
        <p:sp>
          <p:nvSpPr>
            <p:cNvPr id="123" name=""/>
            <p:cNvSpPr/>
            <p:nvPr/>
          </p:nvSpPr>
          <p:spPr>
            <a:xfrm>
              <a:off x="2195640" y="1916280"/>
              <a:ext cx="2881080" cy="4316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-108000" y="1844640"/>
              <a:ext cx="2376360" cy="2232000"/>
              <a:chOff x="-108000" y="1844640"/>
              <a:chExt cx="2376360" cy="2232000"/>
            </a:xfrm>
          </p:grpSpPr>
          <p:sp>
            <p:nvSpPr>
              <p:cNvPr id="125" name=""/>
              <p:cNvSpPr/>
              <p:nvPr/>
            </p:nvSpPr>
            <p:spPr>
              <a:xfrm>
                <a:off x="-108000" y="3286080"/>
                <a:ext cx="2266920" cy="79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800" spc="-1" strike="noStrike">
                    <a:solidFill>
                      <a:srgbClr val="000000"/>
                    </a:solidFill>
                    <a:latin typeface="Arial"/>
                  </a:rPr>
                  <a:t>Fl_Butt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619280" y="1844640"/>
                <a:ext cx="649080" cy="1871640"/>
              </a:xfrm>
              <a:custGeom>
                <a:avLst/>
                <a:gdLst/>
                <a:ahLst/>
                <a:rect l="l" t="t" r="r" b="b"/>
                <a:pathLst>
                  <a:path w="409" h="1179">
                    <a:moveTo>
                      <a:pt x="0" y="1179"/>
                    </a:moveTo>
                    <a:cubicBezTo>
                      <a:pt x="11" y="801"/>
                      <a:pt x="23" y="423"/>
                      <a:pt x="91" y="227"/>
                    </a:cubicBezTo>
                    <a:cubicBezTo>
                      <a:pt x="159" y="31"/>
                      <a:pt x="284" y="15"/>
                      <a:pt x="409" y="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" name=""/>
          <p:cNvGrpSpPr/>
          <p:nvPr/>
        </p:nvGrpSpPr>
        <p:grpSpPr>
          <a:xfrm>
            <a:off x="217440" y="1184400"/>
            <a:ext cx="3490920" cy="515880"/>
            <a:chOff x="217440" y="1184400"/>
            <a:chExt cx="3490920" cy="515880"/>
          </a:xfrm>
        </p:grpSpPr>
        <p:sp>
          <p:nvSpPr>
            <p:cNvPr id="128" name=""/>
            <p:cNvSpPr/>
            <p:nvPr/>
          </p:nvSpPr>
          <p:spPr>
            <a:xfrm>
              <a:off x="217440" y="1268280"/>
              <a:ext cx="16178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Arial"/>
                </a:rPr>
                <a:t>Fl_Cho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92360" y="1184400"/>
              <a:ext cx="2016000" cy="299880"/>
            </a:xfrm>
            <a:custGeom>
              <a:avLst/>
              <a:gdLst/>
              <a:ahLst/>
              <a:rect l="l" t="t" r="r" b="b"/>
              <a:pathLst>
                <a:path w="1270" h="189">
                  <a:moveTo>
                    <a:pt x="0" y="189"/>
                  </a:moveTo>
                  <a:cubicBezTo>
                    <a:pt x="347" y="102"/>
                    <a:pt x="695" y="16"/>
                    <a:pt x="907" y="8"/>
                  </a:cubicBezTo>
                  <a:cubicBezTo>
                    <a:pt x="1119" y="0"/>
                    <a:pt x="1194" y="72"/>
                    <a:pt x="1270" y="144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5506920" y="1484280"/>
            <a:ext cx="3602160" cy="1873440"/>
            <a:chOff x="5506920" y="1484280"/>
            <a:chExt cx="3602160" cy="1873440"/>
          </a:xfrm>
        </p:grpSpPr>
        <p:sp>
          <p:nvSpPr>
            <p:cNvPr id="131" name=""/>
            <p:cNvSpPr/>
            <p:nvPr/>
          </p:nvSpPr>
          <p:spPr>
            <a:xfrm>
              <a:off x="5506920" y="1484280"/>
              <a:ext cx="1152720" cy="719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842160" y="2567160"/>
              <a:ext cx="226692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Your 3rd HW butt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940360" y="2276640"/>
              <a:ext cx="863640" cy="684000"/>
            </a:xfrm>
            <a:custGeom>
              <a:avLst/>
              <a:gdLst/>
              <a:ahLst/>
              <a:rect l="l" t="t" r="r" b="b"/>
              <a:pathLst>
                <a:path w="544" h="431">
                  <a:moveTo>
                    <a:pt x="544" y="408"/>
                  </a:moveTo>
                  <a:cubicBezTo>
                    <a:pt x="385" y="419"/>
                    <a:pt x="227" y="431"/>
                    <a:pt x="136" y="363"/>
                  </a:cubicBezTo>
                  <a:cubicBezTo>
                    <a:pt x="45" y="295"/>
                    <a:pt x="22" y="147"/>
                    <a:pt x="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in(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Adding sub-widg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Put between begin() and end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Create a callback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button-&gt;callback((Fl_Callback*) your_CB_function, parameter_pt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Drawing routine: 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MyGlWindow-&gt;Draw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The mesh DS (using CGAL) in MyGlWin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first assig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void Subdivide_CB(Fl_Widget* /*button*/, MyGlWindow* myWi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if(strcmp(SubAlg, "Sqrt-3") ==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myWind-&gt;subdivide_sqrt3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else if(strcmp(SubAlg, "Loops") ==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myWind-&gt;subdivide_loops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myWind-&gt;damage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CGAL – Halfedge 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Halfedge_hand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CCW 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next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prev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opposite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and refers to the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Halfedge Diagra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9280" y="1557360"/>
            <a:ext cx="3848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GAL-Polyhedron_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Halfedge Data-Structure Design"/>
          <p:cNvPicPr/>
          <p:nvPr/>
        </p:nvPicPr>
        <p:blipFill>
          <a:blip r:embed="rId1"/>
          <a:stretch/>
        </p:blipFill>
        <p:spPr>
          <a:xfrm>
            <a:off x="1332000" y="1936800"/>
            <a:ext cx="6624720" cy="40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Iterators and Circul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typedef CGAL::Cartesian&lt;double&gt;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Kerne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typedef CGAL::Polyhedron_3&lt;Kernel&gt;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Polyhedr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typedef Polyhedron::Vertex_iterator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Vertex_iterat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typedef Polyhedron::Edge_iterator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Edge_iterat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typedef Polyhedron::Facet_iterator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Facet_iterat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typedef Polyhedron::Halfedge_around_vertex_const_circulator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HV_circulat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typedef Polyhedron::Halfedge_around_facet_circulator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HF_circulat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typedef Kernel::Vector_3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Vect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typedef Kernel::Point_3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Poi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3T18:19:49Z</dcterms:created>
  <dc:creator>Jonash</dc:creator>
  <dc:description/>
  <dc:language>en-US</dc:language>
  <cp:lastModifiedBy>Jonash</cp:lastModifiedBy>
  <dcterms:modified xsi:type="dcterms:W3CDTF">2007-03-14T07:47:27Z</dcterms:modified>
  <cp:revision>15</cp:revision>
  <dc:subject/>
  <dc:title>投影片 1</dc:title>
</cp:coreProperties>
</file>